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9039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479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82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2479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9B25A-8C23-46C6-8E1B-DA4A7F6340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C3838-78F3-4449-AD03-D16CAE2B1C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94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ED8D6-0BC9-4DA4-A8D3-E1E05C1056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0E8EB-07CF-4051-B5CD-05829BBD0E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235CA-0B74-46BD-9BD8-2ACA539979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197BC-24DF-4A7E-B325-9FF6B1B636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CF05C-A94C-4D30-BAC2-9E69E87E16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77960" y="4772160"/>
            <a:ext cx="6092640" cy="45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26980-EE50-4B9C-B603-69D53271A8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C9D9D-1254-446D-8342-A24B8A9529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6D2D3-BEA4-40CB-B691-CAE73F6D3A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6B975-A00E-4923-B8EF-44F55C7868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53FED-BA61-47DB-8CC4-74ADD2929D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62F10-9514-4D86-998B-9BE47A53C5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8A7E8-08CA-4B1F-B495-EE27343263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4"/>
          <p:cNvSpPr/>
          <p:nvPr/>
        </p:nvSpPr>
        <p:spPr>
          <a:xfrm>
            <a:off x="4398840" y="9555120"/>
            <a:ext cx="3248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BB84A-F252-405D-BBD6-3CAD12A690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1112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092640" cy="45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63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74440" y="84276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63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74440" y="2233440"/>
            <a:ext cx="15339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9440" y="125280"/>
            <a:ext cx="475776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93960" y="223344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93960" y="842760"/>
            <a:ext cx="232488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2233440"/>
            <a:ext cx="47642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64240" cy="26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1252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3440" indent="-10008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7" name="AutoShape 2"/>
          <p:cNvSpPr/>
          <p:nvPr/>
        </p:nvSpPr>
        <p:spPr>
          <a:xfrm>
            <a:off x="0" y="2819520"/>
            <a:ext cx="5486400" cy="7617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oftware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Ed McNierney</a:t>
            </a:r>
            <a:br>
              <a:rPr sz="1400"/>
            </a:b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November 18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22004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80880" y="34920"/>
            <a:ext cx="47577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  <a:ea typeface="MS Gothic"/>
              </a:rPr>
              <a:t>Top New Features in 8.2.0</a:t>
            </a:r>
            <a:br>
              <a:rPr sz="2800"/>
            </a:br>
            <a:r>
              <a:rPr b="1" lang="en-US" sz="2800" spc="-1" strike="noStrike">
                <a:solidFill>
                  <a:srgbClr val="ff8080"/>
                </a:solidFill>
                <a:latin typeface="Arial"/>
                <a:ea typeface="MS Gothic"/>
              </a:rPr>
              <a:t>Graphical Control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793800" y="98568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  <a:ea typeface="MS Gothic"/>
              </a:rPr>
              <a:t>New Home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467160" cy="210024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"/>
          <p:cNvGrpSpPr/>
          <p:nvPr/>
        </p:nvGrpSpPr>
        <p:grpSpPr>
          <a:xfrm>
            <a:off x="3745080" y="1447920"/>
            <a:ext cx="1587240" cy="1333440"/>
            <a:chOff x="3745080" y="1447920"/>
            <a:chExt cx="1587240" cy="1333440"/>
          </a:xfrm>
        </p:grpSpPr>
        <p:sp>
          <p:nvSpPr>
            <p:cNvPr id="154" name="Rectangle 5"/>
            <p:cNvSpPr/>
            <p:nvPr/>
          </p:nvSpPr>
          <p:spPr>
            <a:xfrm>
              <a:off x="3745080" y="1447920"/>
              <a:ext cx="15872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600" bIns="21600" anchor="ctr">
              <a:noAutofit/>
            </a:bodyPr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Search for activiti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Change view mod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Launch Activity and add or delete from favorit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XO icon brings up control pane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Activity with the focu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  <a:ea typeface="MS Gothic"/>
              </a:rPr>
              <a:t>Longer Battery Life</a:t>
            </a:r>
            <a:br>
              <a:rPr sz="2800"/>
            </a:br>
            <a:r>
              <a:rPr b="1" lang="en-US" sz="2000" spc="-1" strike="noStrike">
                <a:solidFill>
                  <a:srgbClr val="ff8080"/>
                </a:solidFill>
                <a:latin typeface="Arial"/>
                <a:ea typeface="MS Gothic"/>
              </a:rPr>
              <a:t>Two power saving mo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6400" t="9600" r="7200" b="13866"/>
          <a:stretch/>
        </p:blipFill>
        <p:spPr>
          <a:xfrm>
            <a:off x="396720" y="1138320"/>
            <a:ext cx="3291120" cy="218736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4"/>
          <p:cNvGrpSpPr/>
          <p:nvPr/>
        </p:nvGrpSpPr>
        <p:grpSpPr>
          <a:xfrm>
            <a:off x="3897360" y="1219320"/>
            <a:ext cx="1587600" cy="1333440"/>
            <a:chOff x="3897360" y="1219320"/>
            <a:chExt cx="1587600" cy="1333440"/>
          </a:xfrm>
        </p:grpSpPr>
        <p:sp>
          <p:nvSpPr>
            <p:cNvPr id="158" name="Rectangle 5"/>
            <p:cNvSpPr/>
            <p:nvPr/>
          </p:nvSpPr>
          <p:spPr>
            <a:xfrm>
              <a:off x="3897360" y="1219320"/>
              <a:ext cx="158760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600" bIns="21600" anchor="ctr">
              <a:noAutofit/>
            </a:bodyPr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Sleep mode dims screen and slows CPU on id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SzPct val="45000"/>
                <a:buFont typeface="Arial"/>
                <a:buAutoNum type="arabicPeriod"/>
                <a:tabLst>
                  <a:tab algn="l" pos="228600"/>
                  <a:tab algn="l" pos="68580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343400"/>
                  <a:tab algn="l" pos="4800600"/>
                  <a:tab algn="l" pos="5257800"/>
                  <a:tab algn="l" pos="5715000"/>
                  <a:tab algn="l" pos="6172200"/>
                  <a:tab algn="l" pos="6629400"/>
                  <a:tab algn="l" pos="7086600"/>
                  <a:tab algn="l" pos="7543800"/>
                  <a:tab algn="l" pos="8001000"/>
                  <a:tab algn="l" pos="8458200"/>
                  <a:tab algn="l" pos="8915400"/>
                  <a:tab algn="l" pos="93726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Extreme mode does the same and shuts off wireless rad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79440" y="76320"/>
            <a:ext cx="475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  <a:ea typeface="MS Gothic"/>
              </a:rPr>
              <a:t>Software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0880" y="182880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6360" indent="-2714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8.2.0 – New languages, Activity updater, Backup to XS, Longer battery lif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(Fedora standard desktop to complement this relea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14520" indent="-2714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Fedora desktop available this f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6360" indent="-271440">
              <a:lnSpc>
                <a:spcPct val="98000"/>
              </a:lnSpc>
              <a:spcAft>
                <a:spcPts val="108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9.1.0 – Focus on Reliability, Deployability and Collab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(Windows XP dual-boot to complement this relea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6360" indent="-271440">
              <a:lnSpc>
                <a:spcPct val="98000"/>
              </a:lnSpc>
              <a:spcAft>
                <a:spcPts val="1089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Gothic"/>
              </a:rPr>
              <a:t>* Dates and feature sets of future releases subject to chan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309600" y="1066680"/>
            <a:ext cx="4948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312840" y="9907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5268960" y="9907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1492200" y="990720"/>
            <a:ext cx="18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3316320" y="9907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84240" y="762120"/>
            <a:ext cx="7617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MS Gothic"/>
              </a:rPr>
              <a:t>Nov 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173240" y="762120"/>
            <a:ext cx="7617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MS Gothic"/>
              </a:rPr>
              <a:t>Mar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2979720" y="762120"/>
            <a:ext cx="762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MS Gothic"/>
              </a:rPr>
              <a:t>Sept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4724280" y="762120"/>
            <a:ext cx="762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8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MS Gothic"/>
              </a:rPr>
              <a:t>Mar 20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274176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85572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60200" y="1523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Ship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1247760" y="1523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8.1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12840" y="1219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75248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Gothic"/>
              </a:rPr>
              <a:t>8.1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1509840" y="1219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36622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>
            <a:off x="211464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397044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3429000" y="1523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8.2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365760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4900680" y="1452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9.1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8"/>
          <p:cNvSpPr/>
          <p:nvPr/>
        </p:nvSpPr>
        <p:spPr>
          <a:xfrm>
            <a:off x="5268960" y="1219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9"/>
          <p:cNvSpPr/>
          <p:nvPr/>
        </p:nvSpPr>
        <p:spPr>
          <a:xfrm>
            <a:off x="403848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Gothic"/>
              </a:rPr>
              <a:t>8.2.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0"/>
          <p:cNvSpPr/>
          <p:nvPr/>
        </p:nvSpPr>
        <p:spPr>
          <a:xfrm>
            <a:off x="115884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31"/>
          <p:cNvSpPr/>
          <p:nvPr/>
        </p:nvSpPr>
        <p:spPr>
          <a:xfrm>
            <a:off x="18064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32"/>
          <p:cNvSpPr/>
          <p:nvPr/>
        </p:nvSpPr>
        <p:spPr>
          <a:xfrm>
            <a:off x="541440" y="107172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3"/>
          <p:cNvSpPr/>
          <p:nvPr/>
        </p:nvSpPr>
        <p:spPr>
          <a:xfrm>
            <a:off x="241776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4"/>
          <p:cNvSpPr/>
          <p:nvPr/>
        </p:nvSpPr>
        <p:spPr>
          <a:xfrm>
            <a:off x="30304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5"/>
          <p:cNvSpPr/>
          <p:nvPr/>
        </p:nvSpPr>
        <p:spPr>
          <a:xfrm>
            <a:off x="429408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4583160" y="106668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37"/>
          <p:cNvSpPr/>
          <p:nvPr/>
        </p:nvSpPr>
        <p:spPr>
          <a:xfrm>
            <a:off x="4906800" y="1066680"/>
            <a:ext cx="18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8"/>
          <p:cNvSpPr/>
          <p:nvPr/>
        </p:nvSpPr>
        <p:spPr>
          <a:xfrm>
            <a:off x="228600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Gothic"/>
              </a:rPr>
              <a:t>8.1.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2895480" y="1219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Gothic"/>
              </a:rPr>
              <a:t>8.1.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Software Technologi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echnologies in one lapto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h Networking/Collab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gar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tore and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3429000" y="1752480"/>
            <a:ext cx="1752120" cy="1752480"/>
            <a:chOff x="3429000" y="1752480"/>
            <a:chExt cx="1752120" cy="1752480"/>
          </a:xfrm>
        </p:grpSpPr>
        <p:pic>
          <p:nvPicPr>
            <p:cNvPr id="133" name="Picture 5" descr=""/>
            <p:cNvPicPr/>
            <p:nvPr/>
          </p:nvPicPr>
          <p:blipFill>
            <a:blip r:embed="rId1"/>
            <a:stretch/>
          </p:blipFill>
          <p:spPr>
            <a:xfrm>
              <a:off x="3429000" y="1752480"/>
              <a:ext cx="17521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6"/>
            <p:cNvSpPr/>
            <p:nvPr/>
          </p:nvSpPr>
          <p:spPr>
            <a:xfrm>
              <a:off x="4743000" y="2550960"/>
              <a:ext cx="438120" cy="45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36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7642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sleep on lid close or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level support for more aggressive susp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14 hours of battery life in sleep m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management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ook mode to &gt;10 h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ssive CPU susp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Mesh and Collaboration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2.11b/g via infrastructure access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groups of simple mesh, WiFi school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boration in small grou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802.11s evolution, enhanced scaling, develop robust middleware/A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ner cases - many students start up at 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sharing at Activity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User Interfac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s: Home, Group, Neighborhood,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: People, Places, Objects,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 collaboration and simpl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or share activities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performance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sh out the concept of Groups or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other desktops (KDE, Gnome, Window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Datastore / Journal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cs are created; by wh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use; auto s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nological list of activities/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O to XS backup for disaster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ing, integration with standard file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k file transfers, transfers outside of the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sioning, XO to XS backup general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theft of the delivery chain (one time activ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ed software (both OFW and 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 isolated from file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lease management (time-limi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isolation from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signing, Identity authen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XS School Server Softwar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ora-based OS; standard services (DHCP, DNS, Apache, uplin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cache, local content and upgrades for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ce server for 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ration and backup for 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 for XO backup/restore to 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le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management of 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ing, Sca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Broader OS Suppor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t Sugar or alternative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D card or USB boot support buil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users OS options beyond standard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current OLPC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ora standard desktop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XP support on future 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 members working on Ubuntu, Debian, and other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-272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inforces XO position as general-purpose, versatile hardware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4:40:08Z</dcterms:created>
  <dc:creator/>
  <dc:description>Camrbridge, MA
April 23-27, 2007
</dc:description>
  <dc:language>en-US</dc:language>
  <cp:lastModifiedBy>Ed McNierney</cp:lastModifiedBy>
  <cp:lastPrinted>2008-09-10T16:24:23Z</cp:lastPrinted>
  <dcterms:modified xsi:type="dcterms:W3CDTF">2008-11-18T12:27:45Z</dcterms:modified>
  <cp:revision>81</cp:revision>
  <dc:subject/>
  <dc:title>One Laptop per Child</dc:title>
</cp:coreProperties>
</file>